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371240" y="763200"/>
            <a:ext cx="5024520" cy="3768840"/>
          </a:xfrm>
          <a:prstGeom prst="rect">
            <a:avLst/>
          </a:prstGeom>
          <a:noFill/>
          <a:ln w="0">
            <a:noFill/>
          </a:ln>
        </p:spPr>
        <p:txBody>
          <a:bodyPr lIns="0" rIns="0" tIns="0" bIns="0" anchor="ctr">
            <a:no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840"/>
            <a:ext cx="62132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360" y="9555120"/>
            <a:ext cx="336852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398840" y="9555120"/>
            <a:ext cx="336888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0E8FC-BAB9-4301-94C0-610F3DC5B3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1"/>
          <p:cNvSpPr>
            <a:spLocks noGrp="1"/>
          </p:cNvSpPr>
          <p:nvPr>
            <p:ph type="body"/>
          </p:nvPr>
        </p:nvSpPr>
        <p:spPr>
          <a:xfrm>
            <a:off x="777960" y="4776840"/>
            <a:ext cx="62150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A5A0F-E45C-481C-8DA2-B7400BA6C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400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6E26C-2BF5-4C95-8EFD-F5E6F98D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7D46F-5734-4937-B17F-F94413C04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832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4000"/>
            <a:ext cx="291960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FAE1D-6CFA-46F8-8398-1DDFFC8AF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7680" cy="49881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1583-6781-4208-9670-65D908A2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768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FA99-FE0F-42D3-8822-BD1B3436A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61A8-FE62-4C12-A22B-5C85C6EA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35AAB-61DD-4B95-88E7-2B7ED2261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7680" cy="5828400"/>
          </a:xfrm>
          <a:prstGeom prst="rect">
            <a:avLst/>
          </a:prstGeom>
          <a:noFill/>
          <a:ln w="0">
            <a:noFill/>
          </a:ln>
        </p:spPr>
        <p:txBody>
          <a:bodyPr lIns="0" rIns="0" tIns="0" bIns="0" anchor="ctr">
            <a:noAutofit/>
          </a:bodyPr>
          <a:p>
            <a:pPr algn="ct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E8866-66D8-4E18-8617-C1BD70D4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5D66-8F46-45AF-8130-A1AFC75CF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760" cy="498816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400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E8DD-B250-4D71-BD2F-E335DD4F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8320"/>
            <a:ext cx="442476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4000"/>
            <a:ext cx="9067680" cy="2379240"/>
          </a:xfrm>
          <a:prstGeom prst="rect">
            <a:avLst/>
          </a:prstGeom>
          <a:noFill/>
          <a:ln w="0">
            <a:noFill/>
          </a:ln>
        </p:spPr>
        <p:txBody>
          <a:bodyPr lIns="0" rIns="0" tIns="0" bIns="0" anchor="t">
            <a:normAutofit/>
          </a:bodyPr>
          <a:p>
            <a:pPr indent="0">
              <a:lnSpc>
                <a:spcPct val="81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DA8F-EE15-4A7C-9C83-14FCE0A3F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7680" cy="1257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7680" cy="4988160"/>
          </a:xfrm>
          <a:prstGeom prst="rect">
            <a:avLst/>
          </a:prstGeom>
          <a:noFill/>
          <a:ln w="0">
            <a:noFill/>
          </a:ln>
        </p:spPr>
        <p:txBody>
          <a:bodyPr lIns="0" rIns="0" tIns="0" bIns="0" anchor="t">
            <a:normAutofit/>
          </a:bodyPr>
          <a:p>
            <a:pPr marL="428760" indent="-3240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81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81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81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324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886080"/>
            <a:ext cx="319068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6886080"/>
            <a:ext cx="234324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1FAC8-E9E6-410E-A195-83D19C4C72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USIEP</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uhan University </a:t>
            </a: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mmer Intensive English Program</a:t>
            </a: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8760" indent="0" algn="ctr">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July 16-August 10, 2007</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ain curriculum</a:t>
            </a:r>
            <a:endParaRPr b="0" lang="en-US" sz="4400" spc="-1" strike="noStrike">
              <a:solidFill>
                <a:srgbClr val="000000"/>
              </a:solidFill>
              <a:latin typeface="Arial"/>
            </a:endParaRPr>
          </a:p>
        </p:txBody>
      </p:sp>
      <p:sp>
        <p:nvSpPr>
          <p:cNvPr id="53" name="PlaceHolder 2"/>
          <p:cNvSpPr>
            <a:spLocks noGrp="1"/>
          </p:cNvSpPr>
          <p:nvPr>
            <p:ph/>
          </p:nvPr>
        </p:nvSpPr>
        <p:spPr>
          <a:xfrm>
            <a:off x="636480" y="1782720"/>
            <a:ext cx="9072720" cy="5075280"/>
          </a:xfrm>
          <a:prstGeom prst="rect">
            <a:avLst/>
          </a:prstGeom>
          <a:noFill/>
          <a:ln w="0">
            <a:noFill/>
          </a:ln>
        </p:spPr>
        <p:txBody>
          <a:bodyPr lIns="0" rIns="0" tIns="0" bIns="0" anchor="t">
            <a:normAutofit fontScale="99000"/>
          </a:bodyPr>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will learn 10 Themes on Contemporary Culture in the USA from 10 teachers</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re will be four topics from each teacher</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will also learn how to give a formal (prepared) public speech, which you will give on the last day of class.</a:t>
            </a:r>
            <a:endParaRPr b="0" lang="en-US" sz="3200" spc="-1" strike="noStrike">
              <a:solidFill>
                <a:srgbClr val="000000"/>
              </a:solidFill>
              <a:latin typeface="Arial"/>
            </a:endParaRPr>
          </a:p>
          <a:p>
            <a:pPr marL="424440" indent="-3207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On Saturday August 4th, there will be a Speech Contest for the top 20 students as selected by the teachers, based on outstanding daily performance in clas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tracurricular Activities</a:t>
            </a:r>
            <a:endParaRPr b="0" lang="en-US" sz="4400" spc="-1" strike="noStrike">
              <a:solidFill>
                <a:srgbClr val="000000"/>
              </a:solidFill>
              <a:latin typeface="Arial"/>
            </a:endParaRPr>
          </a:p>
        </p:txBody>
      </p:sp>
      <p:sp>
        <p:nvSpPr>
          <p:cNvPr id="55"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uesday/Thursday nights (starting Thursday July 10) will be Movie Nights.</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dnesday and Friday there will be baseball games at the Olympic field.</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re will also be a poetry group and might be some other groups/clubs, as well.</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teachers will also enjoy going out to eat and shopping with you.</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General values of the program:</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9072360" cy="525780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1)  Practice Makes Perfect. </a:t>
            </a:r>
            <a:r>
              <a:rPr b="0" lang="en-GB" sz="1600" spc="-1" strike="noStrike">
                <a:solidFill>
                  <a:srgbClr val="000000"/>
                </a:solidFill>
                <a:latin typeface="Arial"/>
              </a:rPr>
              <a:t>Practice what you learn in class. Every day you should try to use some aspect of the lesson outside of class. Speak English as often as possible, to other members of the summer program or anyone who can speak with you.</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2) Ask Questions.</a:t>
            </a:r>
            <a:r>
              <a:rPr b="0" lang="en-GB" sz="1600" spc="-1" strike="noStrike">
                <a:solidFill>
                  <a:srgbClr val="000000"/>
                </a:solidFill>
                <a:latin typeface="Arial"/>
              </a:rPr>
              <a:t> When you have questions—about the lesson, about culture in the USA, or the English language—just ask them. Teachers from the USA welcome opportunities to answer questions...we don't view these as an unwanted interruption.</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 Don't be Shy.</a:t>
            </a:r>
            <a:r>
              <a:rPr b="0" lang="en-GB" sz="1600" spc="-1" strike="noStrike">
                <a:solidFill>
                  <a:srgbClr val="000000"/>
                </a:solidFill>
                <a:latin typeface="Arial"/>
              </a:rPr>
              <a:t> Take risks. Don't worry about being perfectly correct. You can learn from guessing even if you make mistakes and are corrected. The classroom is a safe space to make mistakes.</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4) Find a Framework.</a:t>
            </a:r>
            <a:r>
              <a:rPr b="0" lang="en-GB" sz="1600" spc="-1" strike="noStrike">
                <a:solidFill>
                  <a:srgbClr val="000000"/>
                </a:solidFill>
                <a:latin typeface="Arial"/>
              </a:rPr>
              <a:t> Relate new words and information to what you already know and try also to make personal associations. Group or classify new words, structures, and concepts according to their characteristics.</a:t>
            </a:r>
            <a:endParaRPr b="0" lang="en-US" sz="1600" spc="-1" strike="noStrike">
              <a:solidFill>
                <a:srgbClr val="000000"/>
              </a:solidFill>
              <a:latin typeface="Arial"/>
            </a:endParaRPr>
          </a:p>
          <a:p>
            <a:pPr marL="42876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5) Reflect Every Day.</a:t>
            </a:r>
            <a:r>
              <a:rPr b="0" lang="en-GB" sz="1600" spc="-1" strike="noStrike">
                <a:solidFill>
                  <a:srgbClr val="000000"/>
                </a:solidFill>
                <a:latin typeface="Arial"/>
              </a:rPr>
              <a:t> Make a mental, oral, or written summary of what you learn in class..you can keep a learning journal if you want. Reflect on what you've learned and how you've learned it. Record at least one new aspect of what you've learned every da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One</a:t>
            </a:r>
            <a:endParaRPr b="0" lang="en-US" sz="4400" spc="-1" strike="noStrike">
              <a:solidFill>
                <a:srgbClr val="000000"/>
              </a:solidFill>
              <a:latin typeface="Arial"/>
            </a:endParaRPr>
          </a:p>
        </p:txBody>
      </p:sp>
      <p:sp>
        <p:nvSpPr>
          <p:cNvPr id="5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  Carmen Ladman/Bob Eckhar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  Amber Challifou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3)  Carol Kirwi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4)  Alyssa Franci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5)  Jennifer Johnst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ntertainment and fads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6)  Corliss Payn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7)  Don Yort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8)  Carol Markin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9)  Carolyn Seabur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the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0) Erik Vos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mp; recreation in America</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960"/>
            <a:ext cx="907236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Two</a:t>
            </a:r>
            <a:endParaRPr b="0" lang="en-US" sz="4400" spc="-1" strike="noStrike">
              <a:solidFill>
                <a:srgbClr val="000000"/>
              </a:solidFill>
              <a:latin typeface="Arial"/>
            </a:endParaRPr>
          </a:p>
        </p:txBody>
      </p:sp>
      <p:sp>
        <p:nvSpPr>
          <p:cNvPr id="61"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1)  Jenise Rowekam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2)  Kathy Ols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3)  Pete Dull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mp; Recreation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4)  Monica Lewell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5)  Ann Leak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6)  Mike Lohr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7)  Tara Zahl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8)  Nicholas Santavicca:</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19)  Kim Omachinsk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25160"/>
            <a:ext cx="9072720" cy="1176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hort Three</a:t>
            </a:r>
            <a:endParaRPr b="0" lang="en-US" sz="4400" spc="-1" strike="noStrike">
              <a:solidFill>
                <a:srgbClr val="000000"/>
              </a:solidFill>
              <a:latin typeface="Arial"/>
            </a:endParaRPr>
          </a:p>
        </p:txBody>
      </p:sp>
      <p:sp>
        <p:nvSpPr>
          <p:cNvPr id="63"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1)  Bill Holschuh:</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elationship between Man &amp; Na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2)  Barbara Wooke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ood, diet, and restaurants</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3)  Sharon Peck:</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duc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4)  Melissa Mendels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Music</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5)  Dominic Ren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ntertainment and fads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6)  Michael Reed:</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ports and recreation in America</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7)  Rick Sentier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s and the media in American Cultur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8)  Jan Thoma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s and Travel</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29)  Susan Fassl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 the country and the people</a:t>
            </a:r>
            <a:endParaRPr b="0" lang="en-US" sz="1800" spc="-1" strike="noStrike">
              <a:solidFill>
                <a:srgbClr val="000000"/>
              </a:solidFill>
              <a:latin typeface="Arial"/>
            </a:endParaRPr>
          </a:p>
          <a:p>
            <a:pPr marL="428760" indent="0">
              <a:lnSpc>
                <a:spcPct val="93000"/>
              </a:lnSpc>
              <a:spcAft>
                <a:spcPts val="1426"/>
              </a:spcAft>
              <a:buNone/>
              <a:tabLst>
                <a:tab algn="l" pos="0"/>
                <a:tab algn="l" pos="428760"/>
                <a:tab algn="l" pos="717480"/>
                <a:tab algn="l" pos="1441440"/>
                <a:tab algn="l" pos="2165400"/>
                <a:tab algn="l" pos="2889360"/>
                <a:tab algn="l" pos="3613320"/>
                <a:tab algn="l" pos="4336920"/>
                <a:tab algn="l" pos="5060880"/>
                <a:tab algn="l" pos="5784840"/>
                <a:tab algn="l" pos="6508800"/>
                <a:tab algn="l" pos="7232760"/>
                <a:tab algn="l" pos="7956720"/>
                <a:tab algn="l" pos="8680320"/>
                <a:tab algn="l" pos="9137520"/>
                <a:tab algn="l" pos="9594720"/>
                <a:tab algn="l" pos="10051920"/>
                <a:tab algn="l" pos="10509120"/>
                <a:tab algn="l" pos="10512360"/>
                <a:tab algn="l" pos="10515600"/>
              </a:tabLst>
            </a:pPr>
            <a:r>
              <a:rPr b="0" lang="en-GB" sz="1800" spc="-1" strike="noStrike">
                <a:solidFill>
                  <a:srgbClr val="000000"/>
                </a:solidFill>
                <a:latin typeface="Arial"/>
              </a:rPr>
              <a:t>30) Jenny Merrit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merican Family</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